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www.wormcomposting.ca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wormcomposting.ca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agnet.org/library/eb/503/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eng.me.go.kr/docs/common/common_view.html?idx=54&amp;av_pg=1&amp;mcode=10&amp;classno=12" TargetMode="External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ood Waste</a:t>
            </a:r>
            <a:r>
              <a:rPr b="0" lang="en-US" sz="7200" spc="-1" strike="noStrike">
                <a:solidFill>
                  <a:srgbClr val="ffffff"/>
                </a:solidFill>
                <a:latin typeface="Helvetica Neue Light"/>
                <a:ea typeface="华文细黑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unny Lee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87320" y="4568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Obstacles of Recycling Food Waste in Kore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87320" y="312372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12840" indent="-3128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re is a high salt cont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12840" indent="-3128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igh Price: The average price of commercial compost in Korea is about US$2.00 for a 20-kg package, which is 20 times higher than that of chemical fertilizer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12840" indent="-3128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re is a general perception that all trash go to incinerators or landfill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12840" indent="-3128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arms have refused to accept recycled fertilizers and feed materials, even though the government provides these items to farmers for free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12840" indent="-3128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nsequently, many of the recycled fertilizers and feed materials end up in landfill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98160" indent="-3981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duces the mass and volume transported to the landfill, and increases its lif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posting has been a trend since mid 1980s and food and restuarant waste composting is increas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posting of food waste in city itself reduces the transportation cost of MSW manage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Largely windrow-based technologies, in-vessel technologies are being used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osting in General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87320" y="12708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osting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0" y="2222640"/>
            <a:ext cx="3962520" cy="2057400"/>
          </a:xfrm>
          <a:prstGeom prst="roundRect">
            <a:avLst>
              <a:gd name="adj" fmla="val 9259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Heat + Carbon Dioxide + Water Vapor into ai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813200" y="5740560"/>
            <a:ext cx="15876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0" name=""/>
          <p:cNvSpPr/>
          <p:nvPr/>
        </p:nvSpPr>
        <p:spPr>
          <a:xfrm>
            <a:off x="1079640" y="4838760"/>
            <a:ext cx="3530520" cy="1803240"/>
          </a:xfrm>
          <a:prstGeom prst="roundRect">
            <a:avLst>
              <a:gd name="adj" fmla="val 10560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Minerals and organic Material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1" name=""/>
          <p:cNvSpPr/>
          <p:nvPr/>
        </p:nvSpPr>
        <p:spPr>
          <a:xfrm>
            <a:off x="6698520" y="3065400"/>
            <a:ext cx="3976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at the same time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2" name=""/>
          <p:cNvSpPr/>
          <p:nvPr/>
        </p:nvSpPr>
        <p:spPr>
          <a:xfrm>
            <a:off x="6807240" y="4915080"/>
            <a:ext cx="3517920" cy="1638000"/>
          </a:xfrm>
          <a:prstGeom prst="roundRect">
            <a:avLst>
              <a:gd name="adj" fmla="val 11625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reusable soil amend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3" name=""/>
          <p:cNvSpPr/>
          <p:nvPr/>
        </p:nvSpPr>
        <p:spPr>
          <a:xfrm>
            <a:off x="1681200" y="2270520"/>
            <a:ext cx="29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4" name=""/>
          <p:cNvSpPr/>
          <p:nvPr/>
        </p:nvSpPr>
        <p:spPr>
          <a:xfrm>
            <a:off x="1131840" y="7010280"/>
            <a:ext cx="107442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Main Factors: moisture, temperature, pH, intitial recipe C/N (carbon to nitrogen ratio) ration and oxygen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5822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Helvetica Neue Light"/>
              </a:rPr>
              <a:t>More about in-vessel technology</a:t>
            </a:r>
            <a:endParaRPr b="0" lang="en-US" sz="6400" spc="-1" strike="noStrike">
              <a:solidFill>
                <a:srgbClr val="ffffff"/>
              </a:solidFill>
              <a:latin typeface="Helvetica Neue Light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87320" y="2971800"/>
          <a:ext cx="11430000" cy="5715000"/>
        </p:xfrm>
        <a:graphic>
          <a:graphicData uri="http://schemas.openxmlformats.org/drawingml/2006/table">
            <a:tbl>
              <a:tblPr/>
              <a:tblGrid>
                <a:gridCol w="3708360"/>
                <a:gridCol w="7721640"/>
              </a:tblGrid>
              <a:tr h="1905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Process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Can be fully controlled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90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Odor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can be collected and treated before discharging in to atmosphere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905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Bulking Agents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wood chips, saw dust, peat moss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87320" y="66024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roblems of Composting in General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87320" y="314928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composting facilites should be compac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food waste needs to be mixed to a readily available bulking agent to reduce its moisture content, but this bulking agent may not be read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operation of the community is need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odors and leachate require special atten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87320" y="37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osting In Kore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0" name=""/>
          <p:cNvSpPr/>
          <p:nvPr/>
        </p:nvSpPr>
        <p:spPr>
          <a:xfrm>
            <a:off x="1866960" y="2324160"/>
            <a:ext cx="3327480" cy="2743200"/>
          </a:xfrm>
          <a:prstGeom prst="roundRect">
            <a:avLst>
              <a:gd name="adj" fmla="val 6944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113 places that recycle food waste into fodd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1" name=""/>
          <p:cNvSpPr/>
          <p:nvPr/>
        </p:nvSpPr>
        <p:spPr>
          <a:xfrm>
            <a:off x="7365960" y="2260440"/>
            <a:ext cx="3111480" cy="2819520"/>
          </a:xfrm>
          <a:prstGeom prst="roundRect">
            <a:avLst>
              <a:gd name="adj" fmla="val 6755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96 places that compost food was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155920" y="5067360"/>
            <a:ext cx="1028520" cy="1130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540480" y="5029200"/>
            <a:ext cx="876240" cy="11937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4" name=""/>
          <p:cNvSpPr/>
          <p:nvPr/>
        </p:nvSpPr>
        <p:spPr>
          <a:xfrm>
            <a:off x="1714680" y="6629400"/>
            <a:ext cx="3632040" cy="198108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90% of the food waste is handled her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5" name=""/>
          <p:cNvSpPr/>
          <p:nvPr/>
        </p:nvSpPr>
        <p:spPr>
          <a:xfrm>
            <a:off x="5575320" y="7327800"/>
            <a:ext cx="1054080" cy="584280"/>
          </a:xfrm>
          <a:prstGeom prst="rightArrow">
            <a:avLst>
              <a:gd name="adj1" fmla="val 33333"/>
              <a:gd name="adj2" fmla="val 56519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6" name=""/>
          <p:cNvSpPr/>
          <p:nvPr/>
        </p:nvSpPr>
        <p:spPr>
          <a:xfrm>
            <a:off x="6972480" y="6299280"/>
            <a:ext cx="4952880" cy="2641680"/>
          </a:xfrm>
          <a:prstGeom prst="roundRect">
            <a:avLst>
              <a:gd name="adj" fmla="val 7208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89.7% of the waste water created in the process recycling food waste is created her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87320" y="52056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More about Composting - By-product Fertilizer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87320" y="3568680"/>
          <a:ext cx="11430000" cy="5295960"/>
        </p:xfrm>
        <a:graphic>
          <a:graphicData uri="http://schemas.openxmlformats.org/drawingml/2006/table">
            <a:tbl>
              <a:tblPr/>
              <a:tblGrid>
                <a:gridCol w="3546360"/>
                <a:gridCol w="7883640"/>
              </a:tblGrid>
              <a:tr h="1229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Raw Material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By-products from fisheries, agriculture, food waste, and so on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2356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Official Standards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Organic Matter: &gt;20%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Harmful Materials: below permitted levels of six kinds of heavy material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229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Moisture Content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40-50%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Maturity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Compost needed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Worms!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87320" y="2400120"/>
            <a:ext cx="1143000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re are only three centers that raise worms for food was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nly 0.42 of the waste water is created here, which is the least among all other places handling food was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Since worms help natural decomposition and creation of subsequent product (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부변토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), this method is the most nature-friendly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owever, the study of the usage of worms is limited for now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[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출처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] 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음식물쓰레기 재활용해야 인류가 산다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에코저널기고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종합환경연구소 이승호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|</a:t>
            </a:r>
            <a:r>
              <a:rPr b="0" lang="zh-CN" sz="3600" spc="-1" strike="noStrike">
                <a:solidFill>
                  <a:srgbClr val="ffffff"/>
                </a:solidFill>
                <a:latin typeface="Helvetica Neue Light"/>
                <a:ea typeface="AppleGothic"/>
              </a:rPr>
              <a:t>작성자 이승호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Helvetica Neue Light"/>
              </a:rPr>
              <a:t>Food Waste Management in Canada</a:t>
            </a:r>
            <a:endParaRPr b="0" lang="en-US" sz="6400" spc="-1" strike="noStrike">
              <a:solidFill>
                <a:srgbClr val="ffffff"/>
              </a:solidFill>
              <a:latin typeface="Helvetica Neue Light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507960" y="3429000"/>
          <a:ext cx="11353680" cy="5715000"/>
        </p:xfrm>
        <a:graphic>
          <a:graphicData uri="http://schemas.openxmlformats.org/drawingml/2006/table">
            <a:tbl>
              <a:tblPr/>
              <a:tblGrid>
                <a:gridCol w="4165560"/>
                <a:gridCol w="3276720"/>
                <a:gridCol w="3911400"/>
              </a:tblGrid>
              <a:tr h="142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Western Canada (BC-AB-SK-MB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98 facilities (43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867,761 tonnes (22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42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Ontario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60 facilities (26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681,089 tonnes (17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428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Quebec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29 facilities (13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1,004,970 tonnes (26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  <a:tr h="142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Atlantic Canada (NB-PE-NS-NF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40 facilities (18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Helvetica Neue Light"/>
                          <a:ea typeface="华文细黑"/>
                        </a:rPr>
                        <a:t>1,393,363 tonnes (35% of total)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4e51">
                        <a:alpha val="36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>
            <a:off x="916560" y="2549880"/>
            <a:ext cx="21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Facilities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60240" y="-25416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How is it in Canada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87320" y="1523520"/>
            <a:ext cx="1143000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Canadian composting industry is continuing to grow stronger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re is a strong presence of residential backyard composting programs, and they are proving their value for effective and efficient management of organic residual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n a biannual basis, The Composting Council of Canada conducts a survey of centralized composting operations in Canada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oviding a viable alternative to landfills for organic materials as well as producing products of value and interest to a variety of market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8445600" cy="6553080"/>
            <a:chOff x="0" y="0"/>
            <a:chExt cx="8445600" cy="6553080"/>
          </a:xfrm>
        </p:grpSpPr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0" y="217440"/>
              <a:ext cx="8445600" cy="61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239760" y="0"/>
              <a:ext cx="7964280" cy="65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"/>
            <a:stretch/>
          </p:blipFill>
          <p:spPr>
            <a:xfrm>
              <a:off x="0" y="103320"/>
              <a:ext cx="8445600" cy="63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0" y="109440"/>
              <a:ext cx="8445600" cy="63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6"/>
            <a:stretch/>
          </p:blipFill>
          <p:spPr>
            <a:xfrm>
              <a:off x="0" y="109440"/>
              <a:ext cx="8445600" cy="63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7"/>
            <a:stretch/>
          </p:blipFill>
          <p:spPr>
            <a:xfrm>
              <a:off x="0" y="109440"/>
              <a:ext cx="8445600" cy="6334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Worm Composting in Cana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orm composting is relatively new in Canada too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4"/>
              </a:rPr>
              <a:t>http://www.wormcomposting.c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/ -&gt; They currently sell Red Wiggler Worms (Eisenia fetida) for worm composting, fishing and live food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anada is also recognizing the benefits of organic decomposition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So..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Food waste is causing great problems around the world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Many countries are using composting nowadays 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Still...reducing food waste is the most effective way...so eat your FOOD!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itation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3"/>
              </a:rPr>
              <a:t>http://www.wormcomposting.c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5"/>
              </a:rPr>
              <a:t>http://www.agnet.org/library/eb/503/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7"/>
              </a:rPr>
              <a:t>http://eng.me.go.kr/docs/common/common_view.html?idx=54&amp;av_pg=1&amp;mcode=10&amp;classno=1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Helvetica Neue Light"/>
              </a:rPr>
              <a:t>http://www.abanet.org/environ/committees/intenviron/newsletter/feb03/korea/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ttp://blog.naver.com/shl1472?Redirect=Log&amp;logNo=130009241577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223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Helvetica Neue Light"/>
              </a:rPr>
              <a:t>Why Should We Pay Attention to Food Waste?</a:t>
            </a:r>
            <a:endParaRPr b="0" lang="en-US" sz="64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4" name=""/>
          <p:cNvSpPr/>
          <p:nvPr/>
        </p:nvSpPr>
        <p:spPr>
          <a:xfrm>
            <a:off x="723960" y="2895480"/>
            <a:ext cx="4597200" cy="2006640"/>
          </a:xfrm>
          <a:prstGeom prst="roundRect">
            <a:avLst>
              <a:gd name="adj" fmla="val 9491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creasing global urban population (GUP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5" name=""/>
          <p:cNvSpPr/>
          <p:nvPr/>
        </p:nvSpPr>
        <p:spPr>
          <a:xfrm>
            <a:off x="7404120" y="7467480"/>
            <a:ext cx="4356000" cy="1625760"/>
          </a:xfrm>
          <a:prstGeom prst="roundRect">
            <a:avLst>
              <a:gd name="adj" fmla="val 11718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crease of urban food waste (UFW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5895720" y="5349960"/>
            <a:ext cx="1206360" cy="14097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6006600" y="3873600"/>
            <a:ext cx="1582920" cy="252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8" name=""/>
          <p:cNvSpPr/>
          <p:nvPr/>
        </p:nvSpPr>
        <p:spPr>
          <a:xfrm>
            <a:off x="7937640" y="2838600"/>
            <a:ext cx="38606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From 1950 -2000, the GUP has increased from 0.8 billion to 2.9, and will reach 5 bullion by 2030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473800" y="8089920"/>
            <a:ext cx="1650960" cy="7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0" name=""/>
          <p:cNvSpPr/>
          <p:nvPr/>
        </p:nvSpPr>
        <p:spPr>
          <a:xfrm>
            <a:off x="723960" y="7099200"/>
            <a:ext cx="4597200" cy="2006640"/>
          </a:xfrm>
          <a:prstGeom prst="roundRect">
            <a:avLst>
              <a:gd name="adj" fmla="val 9491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adds pressure to already over-loaded landfill sites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The Waste in Korea..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30% of Korea’s urban garbage is composed of food was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orea creates 11,397 tons of food residual, which is equivalent to 2849 of 4 ton truck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position: Vegetable(46%) &gt; Grain (22%) Meat &amp;  Fish(16%) &gt; Fruits (16%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ource: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ouseholds(53%) &gt; restaurants  (47%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7320" y="10152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roblems of Burying Waste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3225960"/>
            <a:ext cx="1435320" cy="1130040"/>
          </a:xfrm>
          <a:prstGeom prst="roundRect">
            <a:avLst>
              <a:gd name="adj" fmla="val 16852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Was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107800" y="3797280"/>
            <a:ext cx="11178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6" name=""/>
          <p:cNvSpPr/>
          <p:nvPr/>
        </p:nvSpPr>
        <p:spPr>
          <a:xfrm>
            <a:off x="6718320" y="7010280"/>
            <a:ext cx="1968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7" name=""/>
          <p:cNvSpPr/>
          <p:nvPr/>
        </p:nvSpPr>
        <p:spPr>
          <a:xfrm>
            <a:off x="9283680" y="6375240"/>
            <a:ext cx="175248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Landfill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8" name=""/>
          <p:cNvSpPr/>
          <p:nvPr/>
        </p:nvSpPr>
        <p:spPr>
          <a:xfrm>
            <a:off x="3403440" y="3174840"/>
            <a:ext cx="2565720" cy="1231920"/>
          </a:xfrm>
          <a:prstGeom prst="roundRect">
            <a:avLst>
              <a:gd name="adj" fmla="val 15463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ciner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9" name=""/>
          <p:cNvSpPr/>
          <p:nvPr/>
        </p:nvSpPr>
        <p:spPr>
          <a:xfrm>
            <a:off x="279360" y="5334120"/>
            <a:ext cx="6032520" cy="3352680"/>
          </a:xfrm>
          <a:prstGeom prst="roundRect">
            <a:avLst>
              <a:gd name="adj" fmla="val 4921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Hard to find the right lan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Expensive to take care of it afterward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Produces large amounts of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methane and carbon dioxid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0" name=""/>
          <p:cNvSpPr/>
          <p:nvPr/>
        </p:nvSpPr>
        <p:spPr>
          <a:xfrm>
            <a:off x="7493040" y="2629080"/>
            <a:ext cx="5321160" cy="2336760"/>
          </a:xfrm>
          <a:prstGeom prst="roundRect">
            <a:avLst>
              <a:gd name="adj" fmla="val 8148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*S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ce most food wastes are soggy, they decrease incineration efficienc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10146960" y="5244840"/>
            <a:ext cx="1260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197760" y="3797280"/>
            <a:ext cx="11174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3" name=""/>
          <p:cNvSpPr/>
          <p:nvPr/>
        </p:nvSpPr>
        <p:spPr>
          <a:xfrm>
            <a:off x="6299280" y="8204040"/>
            <a:ext cx="914400" cy="685800"/>
          </a:xfrm>
          <a:prstGeom prst="rightArrow">
            <a:avLst>
              <a:gd name="adj1" fmla="val 33333"/>
              <a:gd name="adj2" fmla="val 48148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4" name=""/>
          <p:cNvSpPr/>
          <p:nvPr/>
        </p:nvSpPr>
        <p:spPr>
          <a:xfrm>
            <a:off x="7365960" y="7950240"/>
            <a:ext cx="55879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Especially Methane is greenhouse gas with 100 years of global warming potential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Solution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87320" y="238716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od contains a high degree of organic matters and nutrient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us, food waste can be reused as organic  resources in the forms of animal feed and compo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mply reduce food leftover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00280" y="66024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Nutrient Content of Food Waste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819000" y="3632040"/>
            <a:ext cx="1136988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Methods of Recycling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et Fodd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y Fodd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post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ubredoxin Inciner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Use of worms and mushroom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arison of Method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789120" y="4187880"/>
            <a:ext cx="11430000" cy="294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